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8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5.gif" ContentType="image/gif"/>
  <Override PartName="/ppt/media/image9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gif" ContentType="image/gif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C8FB5-CF10-4416-A309-44C6AB79F7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BF61-A8D5-40D8-B594-C27BB61AF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D2AA-A190-410D-A4EC-F5E7AA621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2489-C552-4AC4-B8E8-A8A11E1CB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B3CC-30E5-42A2-B26F-0491E84638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7134-FB51-44C1-818E-5AB67712D4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DC248-4C42-4FF6-BA52-45360AAF18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8CDA7-1DDE-4EC3-8419-290DB0BBE1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C07A-49E4-44DF-9FC8-FC31A1A251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EE124-70D3-4C96-8437-010400058D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4922-1D31-4C46-9102-A6FCB1D65E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C266-76DB-4DDF-BD0E-1A40CC4D4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EE6F0-C253-4E4A-958D-EDE0E6783C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D403-CD40-4AEA-9E23-CBAEBC20DC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7208-8D72-46A5-9686-DD5B985820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635C-5404-4535-A481-CC3B064E8E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EA61-BC11-4FC8-8657-D904CE1204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658-13B4-47DB-B5EA-5E7C6E5EE2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228-E028-410A-BFA9-B4F7D04C7B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4DC-D098-4195-ABCF-8B88B7D319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640-4D64-4F0A-9996-C782C44F04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775-1DE8-4558-BAC6-73980816A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AC61-316E-4EE4-95C8-439D5B35AE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162-0DEE-4129-92CE-88620AF75C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A85-6D75-473F-BB3F-ADFCED428F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646-11F3-464E-9B19-FE5D3A53FC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E09-993E-4E21-BE65-ECAE674913D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DA3-E2FC-4EC8-87BC-C5B58E85A7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AE7-4068-4240-A943-3F08A4F071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45B-8A2A-4C93-8561-D8F6727A3C5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F080F-5579-46C1-973A-B8053F3D55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353DA-7756-4FC6-A4A3-4447C3037E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5DAE9-C3C5-4678-AA84-01704FA23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0826-A63B-475C-B521-D68EBD81AC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21585-5416-41AB-9FFE-4776D5E7CF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07F81-FFB0-4A33-AB3A-8F2CAFCC70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29CBB-0F19-4D1B-94AF-96C8A7060B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A1F19-1F08-4058-8BEA-80C508DF68A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2AA0B-441C-4808-B479-24730BAD4D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C467B-AEAD-4C7C-BE6A-DD3FD5397E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D7FB1-7C92-4DAE-B6C5-5EEFCB1136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46CB0-D899-44AB-BECF-3ACEFD09C5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ADD37-580A-4101-A085-56A5BFD95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52D7-6CC2-4251-BA3A-67DDE714A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D95C-61E6-444C-BDB5-2939A4D9C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5141-5F50-4C4D-A5E0-CD0F877BF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F2E2-F473-40DF-AE34-CEF9164C5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1C87-AAA2-466C-B6AF-961DA7A18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7C1D-AAD9-46C3-9504-5678ABEDD3BA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B449-05FD-4692-BEA8-EF60543CD2B6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969696"/>
            </a:solidFill>
            <a:miter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75248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 fontScale="72000"/>
          </a:bodyPr>
          <a:p>
            <a:pPr marL="284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" indent="-2844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28440" indent="-2844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28440" indent="-2844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8440" indent="-28440" algn="ctr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8440" indent="-28440" algn="ctr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8440" indent="-28440" algn="ctr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06C1-7D35-4CFA-AA86-F45976419D45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82" name="Picture 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5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4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CF2C-5A7A-4852-BE47-C4C908B7AB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animationlibrary.com/a-l/?n=image.php3&amp;image_id=9118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Bell Ringer: 9-27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ost famous monument in Ancient Egypt Call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2F79-EF08-4308-A83E-74348088C39D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1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Kohl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Dark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paint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used to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outline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eye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2"/>
          <a:stretch/>
        </p:blipFill>
        <p:spPr>
          <a:xfrm>
            <a:off x="3733920" y="3124080"/>
            <a:ext cx="236196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22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Mummification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The process of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preserving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body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f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dec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914400" y="3429000"/>
            <a:ext cx="3809880" cy="30099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390528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2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Natron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natural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salt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4671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3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Obelisk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352680" y="17524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A tall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rectangular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pillar with a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pyramid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888840" y="1181160"/>
            <a:ext cx="22860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4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4fe"/>
                </a:solidFill>
                <a:latin typeface="Papyrus"/>
                <a:ea typeface="Papyrus"/>
              </a:rPr>
              <a:t>Ostracon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things that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drawing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text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were sketched on before final art work was complet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>
            <a:off x="1371600" y="3429000"/>
            <a:ext cx="69343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4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Papyrus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A marsh, river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reed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sliced into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strip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pressed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together to make 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writing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su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3809880" cy="3443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5105520" y="2971800"/>
            <a:ext cx="360036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54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Pharaoh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ruler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of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Egy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2"/>
          <a:stretch/>
        </p:blipFill>
        <p:spPr>
          <a:xfrm>
            <a:off x="990720" y="2782800"/>
            <a:ext cx="4343400" cy="3524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3"/>
          <a:stretch/>
        </p:blipFill>
        <p:spPr>
          <a:xfrm>
            <a:off x="5257800" y="2743200"/>
            <a:ext cx="30830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6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Pyramid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Royal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burial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site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during the Old and Middle Kingd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886200" cy="3047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3"/>
          <a:stretch/>
        </p:blipFill>
        <p:spPr>
          <a:xfrm>
            <a:off x="5181480" y="3240000"/>
            <a:ext cx="347688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6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Rosetta Stone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355640" y="1181160"/>
            <a:ext cx="4496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key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to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deciphering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Egyptian wr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23288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74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Sarcophagus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container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into which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coffin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and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mummie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were placed 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6" descr=""/>
          <p:cNvPicPr/>
          <p:nvPr/>
        </p:nvPicPr>
        <p:blipFill>
          <a:blip r:embed="rId2"/>
          <a:stretch/>
        </p:blipFill>
        <p:spPr>
          <a:xfrm>
            <a:off x="2286000" y="3809880"/>
            <a:ext cx="5486400" cy="24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TOC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1: Visual Vo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2: Vocab c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26AA-9144-483B-A0FE-09109E7E1F9C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80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4fe"/>
                </a:solidFill>
                <a:latin typeface="Papyrus"/>
                <a:ea typeface="Papyrus"/>
              </a:rPr>
              <a:t>Sphinx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statue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with 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body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f 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lion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and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head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f 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human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4800600" y="3124080"/>
            <a:ext cx="3505320" cy="28958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"/>
          <p:cNvPicPr/>
          <p:nvPr/>
        </p:nvPicPr>
        <p:blipFill>
          <a:blip r:embed="rId3"/>
          <a:stretch/>
        </p:blipFill>
        <p:spPr>
          <a:xfrm>
            <a:off x="1295280" y="365760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8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Valley of the Kings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This sit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contained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tomb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f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King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, and their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familie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3962160" cy="2533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"/>
          <p:cNvPicPr/>
          <p:nvPr/>
        </p:nvPicPr>
        <p:blipFill>
          <a:blip r:embed="rId3"/>
          <a:stretch/>
        </p:blipFill>
        <p:spPr>
          <a:xfrm>
            <a:off x="4952880" y="3733920"/>
            <a:ext cx="388620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1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2440" tIns="50760" bIns="50760" anchor="ctr">
            <a:noAutofit/>
          </a:bodyPr>
          <a:p>
            <a:pPr marL="414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old"/>
              </a:rPr>
              <a:t>Word Splash…create on left side of Interactive Notebook.</a:t>
            </a:r>
            <a:endParaRPr b="0" lang="en-US" sz="4000" spc="-1" strike="noStrike">
              <a:solidFill>
                <a:srgbClr val="0033cc"/>
              </a:solidFill>
              <a:latin typeface="Arial Bold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265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Write the word you are def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efine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Give a synonym for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Give an antonym for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Write a sentence using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raw a picture to help you remember the wor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6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Amulet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magical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charm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carried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to fight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evil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r to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promote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3"/>
          <a:stretch/>
        </p:blipFill>
        <p:spPr>
          <a:xfrm>
            <a:off x="4952880" y="2819520"/>
            <a:ext cx="343872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7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Afterlife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Life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after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death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1143000" y="3200400"/>
            <a:ext cx="74674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79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Ba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“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spirit”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=it leaves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body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at death, it can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freely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come and go from 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tomb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2"/>
          <a:stretch/>
        </p:blipFill>
        <p:spPr>
          <a:xfrm>
            <a:off x="990720" y="4029120"/>
            <a:ext cx="3657600" cy="2257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3"/>
          <a:stretch/>
        </p:blipFill>
        <p:spPr>
          <a:xfrm>
            <a:off x="5029200" y="3962520"/>
            <a:ext cx="35053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86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Cartouche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A ring surrounding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name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Ancient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Egyptian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kings and que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3"/>
          <a:stretch/>
        </p:blipFill>
        <p:spPr>
          <a:xfrm>
            <a:off x="5048280" y="3276720"/>
            <a:ext cx="3790800" cy="30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93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Dynasty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ancestors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of the same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family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. Ancient Egypt is divided into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30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dynas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3353040" cy="2908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3"/>
          <a:stretch/>
        </p:blipFill>
        <p:spPr>
          <a:xfrm>
            <a:off x="4876920" y="3276720"/>
            <a:ext cx="3733560" cy="299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8743296" presetSubtype="1332248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00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Hieroglyphics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Picture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wri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1066680" y="2971800"/>
            <a:ext cx="4496040" cy="31845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3"/>
          <a:stretch/>
        </p:blipFill>
        <p:spPr>
          <a:xfrm>
            <a:off x="5791320" y="2590920"/>
            <a:ext cx="2762280" cy="3619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72400" y="1219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208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Ka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308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5308"/>
                </a:solidFill>
                <a:uFillTx/>
                <a:latin typeface="Times New Roman Bold"/>
                <a:ea typeface="Times New Roman Bold"/>
              </a:rPr>
              <a:t>life</a:t>
            </a:r>
            <a:r>
              <a:rPr b="0" lang="en-US" sz="3200" spc="-1" strike="noStrike">
                <a:solidFill>
                  <a:srgbClr val="ff5308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5308"/>
                </a:solidFill>
                <a:uFillTx/>
                <a:latin typeface="Times New Roman Bold"/>
                <a:ea typeface="Times New Roman Bold"/>
              </a:rPr>
              <a:t>force</a:t>
            </a:r>
            <a:r>
              <a:rPr b="0" lang="en-US" sz="3200" spc="-1" strike="noStrike">
                <a:solidFill>
                  <a:srgbClr val="ff5308"/>
                </a:solidFill>
                <a:latin typeface="Times New Roman"/>
              </a:rPr>
              <a:t> of a </a:t>
            </a:r>
            <a:r>
              <a:rPr b="0" lang="en-US" sz="3200" spc="-1" strike="noStrike" u="sng">
                <a:solidFill>
                  <a:srgbClr val="ff5308"/>
                </a:solidFill>
                <a:uFillTx/>
                <a:latin typeface="Times New Roman Bold"/>
                <a:ea typeface="Times New Roman Bold"/>
              </a:rPr>
              <a:t>human</a:t>
            </a:r>
            <a:r>
              <a:rPr b="0" lang="en-US" sz="3200" spc="-1" strike="noStrike">
                <a:solidFill>
                  <a:srgbClr val="ff5308"/>
                </a:solidFill>
                <a:latin typeface="Times New Roman"/>
              </a:rPr>
              <a:t> be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2"/>
          <a:stretch/>
        </p:blipFill>
        <p:spPr>
          <a:xfrm>
            <a:off x="1141560" y="3200400"/>
            <a:ext cx="2338200" cy="2362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3"/>
          <a:stretch/>
        </p:blipFill>
        <p:spPr>
          <a:xfrm>
            <a:off x="3505320" y="251460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"/>
          <p:cNvPicPr/>
          <p:nvPr/>
        </p:nvPicPr>
        <p:blipFill>
          <a:blip r:embed="rId4"/>
          <a:stretch/>
        </p:blipFill>
        <p:spPr>
          <a:xfrm>
            <a:off x="6248520" y="3733920"/>
            <a:ext cx="2590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TylerDaughtry</cp:lastModifiedBy>
  <dcterms:modified xsi:type="dcterms:W3CDTF">2013-09-27T14:39:29Z</dcterms:modified>
  <cp:revision>3</cp:revision>
  <dc:subject/>
  <dc:title>Ancient Egypt Vocabulary Words</dc:title>
</cp:coreProperties>
</file>